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media/camera.wav" ContentType="audio/x-wav"/>
  <Override PartName="/ppt/media/type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F4478-2B14-4660-931B-29ACA0A0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90F76-1124-4D42-9498-A4132939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14B92-57F7-4F46-9FDD-A163FDA4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57BCB-CFCE-4A78-AE37-581C5A0A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92BA-4D24-45B1-8C14-5D8695F1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A26F-99E5-4890-9158-17178103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F1D2-F337-4740-9F94-6E8DA2E3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1755-AE60-4E78-8258-9B5C3C18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CC3A-8FC2-4D70-9CF9-DA7538F5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94DB-D8A9-4874-B885-6A6A690F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C726-C70D-48C6-A616-135DC89D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C14CD-EA2C-438D-8EAE-182374F3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0AAE-040C-49CC-9258-91C3F2F1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EDC5-4BCB-4259-929C-268D7DD2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439F-0828-46F0-B48D-9F939E51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657E-4E74-4868-987A-3B49B100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CC45-C05E-4117-9715-1E43478D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D0447-49F3-4915-AAC3-0A27BFF3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962C8-D444-4A31-9754-C13173C0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CBCED-BCCF-4BC2-BA6D-DC8FF3F7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2CA31-CDEE-493B-A9A4-77CC31D7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D8774-E65D-4804-A108-945DD0F2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BF5F-058A-413F-BD4D-15A1B2C5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D197F-252D-4E12-99DA-A036DDEA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32EA-A412-4F38-82DF-86536B8A432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CC85-62E9-46A4-88CB-CD976855DDD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gypt and Nubia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Eric Ma and Erin Stant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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Egypt and Nubia’s history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ypt and Nubia were very, very peaceful Neighb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Egypt took of advantage of Nubia because of their lan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  <p:sndAc>
      <p:stSnd>
        <p:snd r:embed="rId1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ubi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bia was a great trade route between Africa and Egyp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lso had great education center/progra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lso had skilled archer which is why Egypt calls Nubia “the Land of the Bow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gyp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ypt was a great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took advantage of many countries. Mostly Nubi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day Nubia started taking control of Egyp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  <p:sndAc>
      <p:stSnd>
        <p:snd r:embed="rId1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anks for Listening our presentation!!!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pe you enjoyed our PowerPoint!!!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e by: Eric Ma and Erin Stant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8:24:51Z</dcterms:created>
  <dc:creator>Default</dc:creator>
  <dc:description/>
  <dc:language>en-US</dc:language>
  <cp:lastModifiedBy>Default</cp:lastModifiedBy>
  <dcterms:modified xsi:type="dcterms:W3CDTF">2009-01-15T18:43:51Z</dcterms:modified>
  <cp:revision>4</cp:revision>
  <dc:subject/>
  <dc:title>Egypt and Nubia </dc:title>
</cp:coreProperties>
</file>